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369-5F58-4994-8990-E2C6B9FD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EEC-2B18-4836-8CFB-AC278BCC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DDAB-C7DF-4056-A7D1-6FA0B76C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926D-D934-4659-AC57-9722F34E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62E-5643-42EF-9FEE-F9BD6EEF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207-7308-4123-A155-889325F1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0AA-9194-4EF1-99AF-EA47D345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5D52-3C0B-4C31-A40C-16D2C4CE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2FD-6337-4832-AA45-68809995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189-9678-4170-B28F-114DB34C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29D-C1D6-415E-8323-835DB621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EF4-0E4F-44BD-AFEF-FB728F77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9CC7-D153-4638-BA70-28E6D484B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Bernado se levanta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Bernado va a trabajar.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Bernado mira a la tierra.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6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Bernado toca su trompeta.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Bernado da luz a la luna.</a:t>
            </a:r>
            <a:br>
              <a:rPr sz="96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500"/>
            </a:br>
            <a:r>
              <a:rPr b="0" lang="en-GB" sz="9500" spc="-1" strike="noStrike">
                <a:solidFill>
                  <a:srgbClr val="000000"/>
                </a:solidFill>
                <a:latin typeface="Arial"/>
              </a:rPr>
              <a:t>Bernado llora mucho.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96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7:43:54Z</dcterms:created>
  <dc:creator>Helen</dc:creator>
  <dc:description/>
  <dc:language>en-US</dc:language>
  <cp:lastModifiedBy>Helen</cp:lastModifiedBy>
  <dcterms:modified xsi:type="dcterms:W3CDTF">2010-06-09T18:32:46Z</dcterms:modified>
  <cp:revision>2</cp:revision>
  <dc:subject/>
  <dc:title>Bernado se levanta.   </dc:title>
</cp:coreProperties>
</file>